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E61-6FE1-43F6-A156-96B8CBEC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9A6-338C-485E-A9BD-62EF9EA8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A55-C5A5-463D-88E6-D71B8AB1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93A-CD9B-45DB-B7AB-186C97CF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863-7FE8-4958-995D-46FC3043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0DE-56AA-4D0A-8CEA-81DB6E21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038-560E-471E-9683-E97755F3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98B-4C69-47AD-87FC-EB8EF0A5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83F-F614-464D-98F6-9A5C8760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04A-E172-43C6-BF58-AE94092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F72-20E5-485F-80E6-DCBE39BE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F26-E19E-47DB-B537-6AE5D243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0C33-6563-485E-B522-0FF2C4DCE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Lindsay Na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64840" y="83808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Para el desayuno me gusta co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2109960" cy="228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3400" y="4800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El ce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09680" y="2590920"/>
            <a:ext cx="2362320" cy="1861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42240" y="46483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El panqu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724280" y="2590920"/>
            <a:ext cx="196236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31720" y="4572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El pan to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781680" y="2590920"/>
            <a:ext cx="23623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149240" y="4684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El gof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962520" y="4950000"/>
            <a:ext cx="1600200" cy="1527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37880" y="64911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El 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4760" y="49680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ra el almuerzo me gusta co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2362320" cy="156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20" y="38862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Un sandwich de q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14600" y="23623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93440" y="39625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l sopa de to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53000" y="39625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Una rebanada de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15200" y="2057400"/>
            <a:ext cx="1676520" cy="213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41911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657600" y="4343400"/>
            <a:ext cx="1436760" cy="1967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1276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8840" y="4572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ara la cena me gusta co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320" y="380988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Una hamburgu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981080" y="1905120"/>
            <a:ext cx="2362320" cy="1879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69040" y="38862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l bis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057400"/>
            <a:ext cx="2133360" cy="1447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23680" y="36576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l Maccarones con q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934320" y="213372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166160" y="36576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l perro ca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side salad"/>
          <p:cNvPicPr/>
          <p:nvPr/>
        </p:nvPicPr>
        <p:blipFill>
          <a:blip r:embed="rId6"/>
          <a:stretch/>
        </p:blipFill>
        <p:spPr>
          <a:xfrm>
            <a:off x="1523880" y="4703760"/>
            <a:ext cx="2210040" cy="1182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2760" y="59436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Un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5029200" y="4495680"/>
            <a:ext cx="1790640" cy="15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45560" y="60562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800" y="228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a el postre me gusta co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1905120" cy="1795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396252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l helado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0" y="2133720"/>
            <a:ext cx="2209680" cy="146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13640" y="37339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Un pastel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724280" y="2209680"/>
            <a:ext cx="1905120" cy="140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04200" y="37339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Un pastel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815160" y="2133720"/>
            <a:ext cx="2328840" cy="169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62360" y="38862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Un galletas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14:14Z</dcterms:created>
  <dc:creator>naglelin</dc:creator>
  <dc:description/>
  <dc:language>en-US</dc:language>
  <cp:lastModifiedBy>naglelin</cp:lastModifiedBy>
  <dcterms:modified xsi:type="dcterms:W3CDTF">2012-04-04T15:01:54Z</dcterms:modified>
  <cp:revision>10</cp:revision>
  <dc:subject/>
  <dc:title>Las Comidas</dc:title>
</cp:coreProperties>
</file>